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990-B4DC-4C4F-9D48-3A61DD22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77A7-DCA6-45FF-A1D9-3F8552D1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5F22-2026-47D1-9657-0C2701DF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706-AFD0-49E0-B3FF-E2DAE30A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F1C-8B12-4F86-B481-1E048C7A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585F-EAF3-40D3-8667-BB0E0244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BFB0-80F9-447A-9D0B-9697FE50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51A8-BF8F-454B-B47E-23894E9B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AC7-4E52-43F7-ABAC-B52F1F6A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221-8A9F-4F53-B05D-102A89B3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BBD6-878B-4F8F-98CE-28CE2B67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056-BEA3-41CE-9544-63194015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8E1E-B525-4A82-8D8B-5EA166E195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505320" y="4038120"/>
            <a:ext cx="44193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WordArt 4" descr=""/>
          <p:cNvPicPr/>
          <p:nvPr/>
        </p:nvPicPr>
        <p:blipFill>
          <a:blip r:embed="rId2"/>
          <a:stretch/>
        </p:blipFill>
        <p:spPr>
          <a:xfrm>
            <a:off x="987480" y="1292400"/>
            <a:ext cx="701676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рточка сом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 - «Я понял все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 - «Не совсем усвоил, сомневаюсь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 – «Не понял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лшебные линее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Объект 3" descr="http://www.yamal-obr.ru/content/yamal/pics/gallery/1111.jpg"/>
          <p:cNvPicPr/>
          <p:nvPr/>
        </p:nvPicPr>
        <p:blipFill>
          <a:blip r:embed="rId1"/>
          <a:stretch/>
        </p:blipFill>
        <p:spPr>
          <a:xfrm>
            <a:off x="1143000" y="1676520"/>
            <a:ext cx="5943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пособы выражения само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нешнее выражение уровня самоконтроля и  самооценки  может быть представлено следующ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-      - Я это умею и могу двигаться дальше. Я понял материал урока и справился со всеми   зада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- Этот способ деятельности мной еще не освоен, и я пока не могу двигаться дальше. Мне не все понятно, в моей работе есть ошибки, мне нужна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31f2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231f20"/>
                </a:solidFill>
                <a:latin typeface="Monotype Corsiva"/>
                <a:ea typeface="Times New Roman"/>
              </a:rPr>
              <a:t>Не могу самостоятельно двигаться дальше. Я не понял материал, не смог выполнить задание, мне срочно требуется помощ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762120" y="2209680"/>
            <a:ext cx="380880" cy="38124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762120" y="3048120"/>
            <a:ext cx="380880" cy="3808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6"/>
          <p:cNvSpPr/>
          <p:nvPr/>
        </p:nvSpPr>
        <p:spPr>
          <a:xfrm>
            <a:off x="1066680" y="3429000"/>
            <a:ext cx="1800" cy="144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6212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акая работа ведется с 1-го класса. Использование условных сигналов  способствует созданию психологического комфорта, повышению удовлетворенности ученика от деятельности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о 2-го класса в обучении используется алгоритм, направленный на развитие умений само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Мнения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не нравится оценивать саму себя и исправлять оценк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Я за то, чтобы ставить оценки в пятибалльной систе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не нравится, что отметку я ставлю сам и задание выбираю с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не нравится, что нас оценивают в баллах и можно исправить бал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24b50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600200" y="551520"/>
            <a:ext cx="6705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амооценка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— это необходимый компонент развития самосознания, т.е. осознание человеком самого себя, своих физических сил, умственных способностей, поступков, мотивов и целей своего поведения, своего отношения к окружающим и самому себ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Главный смысл самооценки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ключается в самоконтроле обучающегося, его саморегуляции, самостоятельной экспертизе собственной деятельности и в самостимуляции. Переход школьника к самооценке своих учебных действий непрост и нескор, особенно если у него накоплен опыт проживания в другом режиме, где все оценочные функции находились в руках взрослых людей: родителей, воспитателей, уч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ри уровня самооцен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1-й уровень наиболее высокий;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н характеризуется реалистичной самооценкой ребенка: преимущественная ориентация при обосновании самооценки на знание своих особенностей; наличие способности к обобщению ситуаций, в которых реализуются оцениваемые качества; глубокое и разностороннее содержание самооценочных суждений и употребление их преимущественно в проблемных формах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2-й уровень – средний;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ему свойственны непоследовательные проявления реалистичных самооценок; ориентация ребенка при обосновании самооценки, в основном, на мнения окружающих, на анализ конкретных фактов и ситуаций самооценивания, наличие самооценочных суждений самого узкого содержания и их реализация, как в проблематичных, так и в категоричных форма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3-й уровень – низкий;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этот уровень отличают преимущественная неадекватность самооценки ребенка; обоснование ее эмоциональными предпочтениями (захотелось), отсутствие подтверждения самооценки анализом реальных фактов, неглубокое содержание самооценочных суждений и употребление их преимущественно в категоричных форм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2"/>
          <p:cNvSpPr/>
          <p:nvPr/>
        </p:nvSpPr>
        <p:spPr>
          <a:xfrm>
            <a:off x="1828800" y="7621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 мнению психологов, самооценка развивается на протяжении всей жизни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1523880" y="1198800"/>
            <a:ext cx="6705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аиболее благоприятным периодом развития самооценки является младший школьный возраст, так как именно в этот период начинается организованное обучение, и от того, как учитель организует это обучение, зависит, будет ли развитие самооценки активным, так как в этом возрасте самооценка ребенка продолжает формироваться, корректироваться и отшлифовываться под влиянием оценки учителя (словесной — похвала, порицание; и знаковой — отмет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1676520" y="4114800"/>
            <a:ext cx="632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т самооценки человека зависит характер его общения, отношения с другими людьми, успешность его деятельности, дальнейшее развитие его личности. Адекватная самооценка дает человеку нравственное удовлетвор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ути формирования самооценки младших шк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ешающее влияние на формирование самооценки оказывают два факто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 отношение окружающих (в младшем школьном возрасте, в частности, семьи и педагог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 осознание самим ребёнком особенностей своей деятельности, её хода и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Советы педагог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Для формирования адекватной самооценки младшего школьника рекоменд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едагогу идти путём развития возможностей детей, создания для них ситуации успе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 педагогам, и родителям рекомендуется не скупиться на похвалу, проявление эмоциональной поддержки по отношению к дет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работа по формированию самооценки должна осуществляться в разные режимные моменты и в разных видах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едагогу рекомендуется задействовать различные источники и механ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едагогу учитывать принцип меры и принцип сист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бучать ребёнка способам снятия мышечного и эмоционального напря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оводить с детьми релаксационные иг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едоставлять детям возможность делать то, чем они могут горди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едоставлять детям возможность оценить себя положительно (в игре, в исследовании, в бесед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едоставлять детям возможность делать вы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овые подходы к оцениванию учебных  достижений в образовательной систем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предметной сфере это овладение знаниями о способах деятельности и умениями осуществлять деятельность по известным алгоритмам, осуществлять самоконтроль и  самооценку  свои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сфере учебной деятельности -способность к самостоятельному овладению новыми видами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сфере эмоциональноценностных отношений - способность к осуществлению коммуникации учитель - ученик, ученик - уче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ровни успешности в системе самоконтроля и оценив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аксимальный (сверх требований к школьнику), программный, необходим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лгоритм самооце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1. Понимаю задание и определяю цель его выполнения. Алгоритм понимания зад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- читаю зад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- представляю результа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- определяю форму выражения результа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- составляю план действ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2. Определяю уровень выполняемого задания в диалоге с учителем: необходимый - соответствие требованиям государственного стандарта, программный - требования программы  «Школа 2100», максимальный - сверх школьных требов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3. Разрабатываю в диалоге с учителем критерии правильности выполнения задания, которые можно оформить в виде оценочной шкалы или таблицы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4. Выполняю задание и получаю результ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5. Сравниваю полученный результат с нормой после выполнения зад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6. Провожу  самооценку  полученного результата и выражаю ее в форме символов или оценочной шка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7. Сравниваю конечный результат с цел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8. Определяю уровень своей успешности и выражаю его в баллах  успеш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сенка успе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Объект 3" descr="http://www.yamal-obr.ru/content/yamal/pics/gallery/1110.jpg"/>
          <p:cNvPicPr/>
          <p:nvPr/>
        </p:nvPicPr>
        <p:blipFill>
          <a:blip r:embed="rId1"/>
          <a:stretch/>
        </p:blipFill>
        <p:spPr>
          <a:xfrm>
            <a:off x="1828800" y="1981080"/>
            <a:ext cx="5334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</dc:creator>
  <dc:description/>
  <dc:language>en-US</dc:language>
  <cp:lastModifiedBy>Матвей</cp:lastModifiedBy>
  <dcterms:modified xsi:type="dcterms:W3CDTF">2018-03-25T20:42:14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